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B54D-DD76-4B09-A50E-10AEDD5CF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33FD-99C3-48B5-B4C2-510636FF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8EEB-4ACA-41D1-BCB1-BD0448E1D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3BCD-D74F-45F6-B0DF-437941387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5342F-7E11-474D-A13C-AB19298A2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B680A-56E6-4936-9EB9-1FFE1B11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6D14F-ED9F-4906-BDDE-26769C16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8A0C8-1985-4104-B379-B1336E04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B4208-A505-42CD-9D5A-38726CE5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951E6-9BB6-437C-87EE-3958E61B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CEE7A-F609-44EA-8770-F8C5196D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A04A-1434-46E6-A254-444740C6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93A1AA-64CD-45CB-B715-515026B0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31AFB-6E05-420D-ADAE-F0455F9C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652EB-DA64-4130-AC38-DD3CCCC9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E6B5A-FD6A-4B68-AE97-DA20044B6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BCD09-D832-4A70-99D9-D68D23CB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FEE3-9AC6-43B1-BE61-0CF6FA55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8D70-ECCD-4AAD-B4C6-01996539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E7A1-C496-4AF8-9934-689CFA10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92EA-AAED-4920-B86A-E57E8336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260B-D714-454F-8F47-3A908DE2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C5B0-54E7-4221-9F63-0B148F69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6367-738F-4296-B451-7C0E1442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3656-DE22-42B5-B6AC-18FD76FC0A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22B3-E4CD-48EA-871F-78F784814B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progetto%20rivisto.doc" TargetMode="External"/><Relationship Id="rId3" Type="http://schemas.openxmlformats.org/officeDocument/2006/relationships/hyperlink" Target="file:///progetto%20rivisto.doc" TargetMode="External"/><Relationship Id="rId4" Type="http://schemas.openxmlformats.org/officeDocument/2006/relationships/hyperlink" Target="file:///Codignola_progetto/PIANO%20NAZIONALE%20POSEIDON.ppt" TargetMode="External"/><Relationship Id="rId5" Type="http://schemas.openxmlformats.org/officeDocument/2006/relationships/hyperlink" Target="file:///Codignola_progetto/PIANO%20NAZIONALE%20POSEIDON.ppt" TargetMode="External"/><Relationship Id="rId6" Type="http://schemas.openxmlformats.org/officeDocument/2006/relationships/hyperlink" Target="file:///Fallini_Cristina/prodotto%20finale.ppt" TargetMode="External"/><Relationship Id="rId7" Type="http://schemas.openxmlformats.org/officeDocument/2006/relationships/hyperlink" Target="file:///Fallini_Cristina/prodotto%20finale.ppt" TargetMode="External"/><Relationship Id="rId8" Type="http://schemas.openxmlformats.org/officeDocument/2006/relationships/hyperlink" Target="file:///Fallini_Cristina/prodotto%20finale.ppt" TargetMode="External"/><Relationship Id="rId9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1cb75"/>
                </a:solidFill>
                <a:latin typeface="Tahoma"/>
              </a:rPr>
              <a:t>PIANO NAZIONALE POSEIDON</a:t>
            </a:r>
            <a:br>
              <a:rPr sz="1800"/>
            </a:br>
            <a:r>
              <a:rPr b="1" lang="it-IT" sz="1800" spc="-1" strike="noStrike">
                <a:solidFill>
                  <a:srgbClr val="c1cb75"/>
                </a:solidFill>
                <a:latin typeface="Tahoma"/>
              </a:rPr>
              <a:t>PROGETTO DI FORMAZIONE DOCENTI</a:t>
            </a:r>
            <a:br>
              <a:rPr sz="1800"/>
            </a:br>
            <a:r>
              <a:rPr b="1" lang="it-IT" sz="1800" spc="-1" strike="noStrike">
                <a:solidFill>
                  <a:srgbClr val="c1cb75"/>
                </a:solidFill>
                <a:latin typeface="Tahoma"/>
              </a:rPr>
              <a:t>di ITALIANO L1,ITALIANO L2, LINGUE STRANIERE E LINGUE CLASSICHE</a:t>
            </a:r>
            <a:br>
              <a:rPr sz="1800"/>
            </a:br>
            <a:r>
              <a:rPr b="1" lang="it-IT" sz="1800" spc="-1" strike="noStrike">
                <a:solidFill>
                  <a:srgbClr val="c1cb75"/>
                </a:solidFill>
                <a:latin typeface="Tahoma"/>
              </a:rPr>
              <a:t>POSEIDON PIEMONTE 2010-2011</a:t>
            </a:r>
            <a:br>
              <a:rPr sz="1800"/>
            </a:br>
            <a:r>
              <a:rPr b="1" lang="it-IT" sz="1800" spc="-1" strike="noStrike">
                <a:solidFill>
                  <a:srgbClr val="c1cb75"/>
                </a:solidFill>
                <a:latin typeface="Tahoma"/>
              </a:rPr>
              <a:t>GRUPPO DI PROGETTAZIONE TORINO SUD</a:t>
            </a:r>
            <a:br>
              <a:rPr sz="1800"/>
            </a:br>
            <a:endParaRPr b="0" lang="en-US" sz="18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4920" y="2491920"/>
            <a:ext cx="8280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cc00"/>
                </a:solidFill>
                <a:uFillTx/>
                <a:latin typeface="Tahoma"/>
                <a:hlinkClick r:id="rId2"/>
              </a:rPr>
              <a:t>DA TESTO A TEST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cc00"/>
                </a:solidFill>
                <a:uFillTx/>
                <a:latin typeface="Tahoma"/>
                <a:hlinkClick r:id="rId3"/>
              </a:rPr>
              <a:t>LA TRADUZIONE ENDOLINGUIST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Ordine di scuola:                                                    Lingu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Scuola secondaria di I grado                                Italiano L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Scuola secondaria di II grado (bienni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Scuola secondaria di II grado (trienni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ahoma"/>
              </a:rPr>
              <a:t>Corsiste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00cc00"/>
                </a:solidFill>
                <a:uFillTx/>
                <a:latin typeface="Tahoma"/>
                <a:hlinkClick r:id="rId4"/>
              </a:rPr>
              <a:t>Maria Luisa </a:t>
            </a:r>
            <a:r>
              <a:rPr b="0" lang="it-IT" sz="1600" spc="-1" strike="noStrike" u="sng">
                <a:solidFill>
                  <a:srgbClr val="00cc00"/>
                </a:solidFill>
                <a:uFillTx/>
                <a:latin typeface="Tahoma"/>
                <a:hlinkClick r:id="rId5"/>
              </a:rPr>
              <a:t>Codignol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00cc00"/>
                </a:solidFill>
                <a:uFillTx/>
                <a:latin typeface="Tahoma"/>
                <a:hlinkClick r:id="rId6"/>
              </a:rPr>
              <a:t>Elena Cristin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00cc00"/>
                </a:solidFill>
                <a:uFillTx/>
                <a:latin typeface="Tahoma"/>
                <a:hlinkClick r:id="rId7"/>
              </a:rPr>
              <a:t>Gabriella </a:t>
            </a:r>
            <a:r>
              <a:rPr b="0" lang="it-IT" sz="1600" spc="-1" strike="noStrike" u="sng">
                <a:solidFill>
                  <a:srgbClr val="00cc00"/>
                </a:solidFill>
                <a:uFillTx/>
                <a:latin typeface="Tahoma"/>
                <a:hlinkClick r:id="rId8"/>
              </a:rPr>
              <a:t>Fallini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7T09:25:48Z</dcterms:created>
  <dc:creator>Ada</dc:creator>
  <dc:description/>
  <dc:language>en-US</dc:language>
  <cp:lastModifiedBy>Ada</cp:lastModifiedBy>
  <dcterms:modified xsi:type="dcterms:W3CDTF">2011-07-17T18:23:08Z</dcterms:modified>
  <cp:revision>9</cp:revision>
  <dc:subject/>
  <dc:title>PIANO NAZIONALE POSEIDON PROGETTO DI FORMAZIONE DOCENTI di ITALIANO L1,ITALIANO L2, LINGUE STRANIERE E LINGUE CLASSICHE POSEIDON PIEMONTE 2010-2011 GRUPPO DI PROGETTAZIONE TORINO SUD </dc:title>
</cp:coreProperties>
</file>