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10A-FCCA-4755-ABBA-D0E983E0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53E-1DC1-4B15-BEE4-4B4A975B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259-F45A-4E35-8021-3BFC4DA9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9EA-1D38-4545-9056-4B2F0C35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E4F-097F-4CF0-8701-695BF97D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B60-7D09-4ED7-B55B-955DAA02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81E-2FA0-45DC-A02E-78776B75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935-97C5-4972-A7F2-6C0FE4AC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138-F8DE-4D84-B63A-1C439095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89A-5272-41AF-A2A6-76F3A18E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384-2BF9-4D8A-9213-C0B65BD9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A95-1335-4936-BE71-85A8D57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8A69-88E3-4E1C-A51A-108C0504B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IANO NAZIONALE POSEIDON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GETTO DI FORMAZIONE DOCENTI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 ITALIANO L1,ITALIANO L2, LINGUE STRANIERE E LINGUE CLASSICH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OSEIDON PIEMONTE 2010-2011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UPPO DI PROGETTAZIONE TORINO SUD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alibri"/>
              </a:rPr>
              <a:t>DA TESTO A TES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alibri"/>
              </a:rPr>
              <a:t>LA TRADUZIONE ENDOLINGUIS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orsista: Maria Luisa Codign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AZIONE DI INTERVENTI IN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RIMENTAZIONE CON GLI STUDEN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uola secondaria di I gr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 terz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tangolo 7"/>
          <p:cNvSpPr/>
          <p:nvPr/>
        </p:nvSpPr>
        <p:spPr>
          <a:xfrm>
            <a:off x="6215040" y="4429080"/>
            <a:ext cx="2286000" cy="714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sto lette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ttangolo 8"/>
          <p:cNvSpPr/>
          <p:nvPr/>
        </p:nvSpPr>
        <p:spPr>
          <a:xfrm>
            <a:off x="6215040" y="5429160"/>
            <a:ext cx="2286000" cy="571680"/>
          </a:xfrm>
          <a:prstGeom prst="rect">
            <a:avLst/>
          </a:prstGeom>
          <a:solidFill>
            <a:srgbClr val="99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m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DIAZIONE ENDOLINGUIS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f81bd"/>
                </a:solidFill>
                <a:latin typeface="Calibri"/>
              </a:rPr>
              <a:t>SCHEDE  di  RIFERIMENTO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dattica della mediazione linguis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didattica della lettura: comprensione e riscrittura dei te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ogettare e valutare per competenze nell’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riflessione grammaticale nell’apprendimento delle lin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o sviluppo delle competenze semantico-lessic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14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ITALIANO L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 rot="819600">
            <a:off x="5376600" y="3049560"/>
            <a:ext cx="250488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Calibri"/>
              </a:rPr>
              <a:t>La parafras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ccio al te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tura delle domande-gu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zione di una griglia di parafrasi e spiegazione del te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si degli err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zione di una griglia di autovalut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ergamena 2 5"/>
          <p:cNvSpPr/>
          <p:nvPr/>
        </p:nvSpPr>
        <p:spPr>
          <a:xfrm>
            <a:off x="6572160" y="5572080"/>
            <a:ext cx="2071800" cy="6429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afr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LAVORO DI GRUPP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28840" y="22147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NALISI DEL TESTO E PARAFRA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 rot="786600">
            <a:off x="5783040" y="3789360"/>
            <a:ext cx="215892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ttangolo 26"/>
          <p:cNvSpPr/>
          <p:nvPr/>
        </p:nvSpPr>
        <p:spPr>
          <a:xfrm>
            <a:off x="500040" y="500040"/>
            <a:ext cx="400068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ddivisione in gr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ttangolo 27"/>
          <p:cNvSpPr/>
          <p:nvPr/>
        </p:nvSpPr>
        <p:spPr>
          <a:xfrm>
            <a:off x="3357720" y="1571760"/>
            <a:ext cx="40003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tura domande g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ttangolo 29"/>
          <p:cNvSpPr/>
          <p:nvPr/>
        </p:nvSpPr>
        <p:spPr>
          <a:xfrm>
            <a:off x="500040" y="2643120"/>
            <a:ext cx="20001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f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ttangolo 30"/>
          <p:cNvSpPr/>
          <p:nvPr/>
        </p:nvSpPr>
        <p:spPr>
          <a:xfrm>
            <a:off x="2714760" y="3357720"/>
            <a:ext cx="20001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afr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ccia circolare in giù 31"/>
          <p:cNvSpPr/>
          <p:nvPr/>
        </p:nvSpPr>
        <p:spPr>
          <a:xfrm rot="2284800">
            <a:off x="4509720" y="795240"/>
            <a:ext cx="1571760" cy="714600"/>
          </a:xfrm>
          <a:custGeom>
            <a:avLst/>
            <a:gdLst>
              <a:gd name="textAreaLeft" fmla="*/ 325800 w 1571760"/>
              <a:gd name="textAreaRight" fmla="*/ 1156680 w 15717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9" hR="21600" stAng="10800000" swAng="5400000"/>
                <a:lnTo>
                  <a:pt x="11414" y="0"/>
                </a:lnTo>
                <a:arcTo wR="8959" hR="21600" stAng="-5400000" swAng="3485831"/>
                <a:lnTo>
                  <a:pt x="21316" y="16200"/>
                </a:lnTo>
                <a:lnTo>
                  <a:pt x="19146" y="21600"/>
                </a:lnTo>
                <a:lnTo>
                  <a:pt x="16407" y="16200"/>
                </a:lnTo>
                <a:lnTo>
                  <a:pt x="17634" y="16200"/>
                </a:lnTo>
                <a:arcTo wR="8959" hR="21600" stAng="-1914169" swAng="-3288825"/>
                <a:lnTo>
                  <a:pt x="10187" y="204"/>
                </a:lnTo>
                <a:arcTo wR="8959" hR="21600" stAng="-5597007" swAng="-5202993"/>
                <a:close/>
              </a:path>
              <a:path fill="darkenLess" w="21600" h="21600">
                <a:moveTo>
                  <a:pt x="0" y="21600"/>
                </a:moveTo>
                <a:arcTo wR="8959" hR="21600" stAng="10800000" swAng="5400000"/>
                <a:lnTo>
                  <a:pt x="8959" y="0"/>
                </a:lnTo>
                <a:arcTo wR="8959" hR="21600" stAng="-5400000" swAng="197007"/>
                <a:lnTo>
                  <a:pt x="10187" y="204"/>
                </a:lnTo>
                <a:arcTo wR="8959" hR="21600" stAng="-5597007" swAng="-520299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ccia in giù 37"/>
          <p:cNvSpPr/>
          <p:nvPr/>
        </p:nvSpPr>
        <p:spPr>
          <a:xfrm>
            <a:off x="2786040" y="414324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ccia tridirezionale 39"/>
          <p:cNvSpPr/>
          <p:nvPr/>
        </p:nvSpPr>
        <p:spPr>
          <a:xfrm rot="10506000">
            <a:off x="2368080" y="2418840"/>
            <a:ext cx="1497240" cy="82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ttangolo 40"/>
          <p:cNvSpPr/>
          <p:nvPr/>
        </p:nvSpPr>
        <p:spPr>
          <a:xfrm>
            <a:off x="642960" y="4929120"/>
            <a:ext cx="250020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isi del t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ttangolo 41"/>
          <p:cNvSpPr/>
          <p:nvPr/>
        </p:nvSpPr>
        <p:spPr>
          <a:xfrm>
            <a:off x="3643200" y="5214960"/>
            <a:ext cx="25005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to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ttangolo 42"/>
          <p:cNvSpPr/>
          <p:nvPr/>
        </p:nvSpPr>
        <p:spPr>
          <a:xfrm>
            <a:off x="6215040" y="3286080"/>
            <a:ext cx="2500200" cy="8571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lutazione del doc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5" descr=""/>
          <p:cNvPicPr/>
          <p:nvPr/>
        </p:nvPicPr>
        <p:blipFill>
          <a:blip r:embed="rId2"/>
          <a:stretch/>
        </p:blipFill>
        <p:spPr>
          <a:xfrm>
            <a:off x="6429240" y="4286160"/>
            <a:ext cx="2411640" cy="2233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ALISI DEL TE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ISI GRAMMATI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NSIONE GENER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llout con freccia in su 6"/>
          <p:cNvSpPr/>
          <p:nvPr/>
        </p:nvSpPr>
        <p:spPr>
          <a:xfrm rot="1308600">
            <a:off x="1064880" y="2646360"/>
            <a:ext cx="2562120" cy="1225440"/>
          </a:xfrm>
          <a:prstGeom prst="upArrowCallout">
            <a:avLst>
              <a:gd name="adj1" fmla="val 24995"/>
              <a:gd name="adj2" fmla="val 25002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am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allout con freccia in su 7"/>
          <p:cNvSpPr/>
          <p:nvPr/>
        </p:nvSpPr>
        <p:spPr>
          <a:xfrm rot="19992000">
            <a:off x="5654160" y="2401920"/>
            <a:ext cx="2649600" cy="1317600"/>
          </a:xfrm>
          <a:prstGeom prst="upArrowCallout">
            <a:avLst>
              <a:gd name="adj1" fmla="val 25008"/>
              <a:gd name="adj2" fmla="val 24997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r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6357960" y="4357800"/>
            <a:ext cx="1928160" cy="2071080"/>
            <a:chOff x="6357960" y="4357800"/>
            <a:chExt cx="1928160" cy="2071080"/>
          </a:xfrm>
        </p:grpSpPr>
        <p:sp>
          <p:nvSpPr>
            <p:cNvPr id="74" name="Freeform 6"/>
            <p:cNvSpPr/>
            <p:nvPr/>
          </p:nvSpPr>
          <p:spPr>
            <a:xfrm>
              <a:off x="6966000" y="4501440"/>
              <a:ext cx="303480" cy="47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7"/>
            <p:cNvGrpSpPr/>
            <p:nvPr/>
          </p:nvGrpSpPr>
          <p:grpSpPr>
            <a:xfrm>
              <a:off x="6357960" y="5159520"/>
              <a:ext cx="609480" cy="1202400"/>
              <a:chOff x="6357960" y="5159520"/>
              <a:chExt cx="609480" cy="1202400"/>
            </a:xfrm>
          </p:grpSpPr>
          <p:sp>
            <p:nvSpPr>
              <p:cNvPr id="76" name="Freeform 8"/>
              <p:cNvSpPr/>
              <p:nvPr/>
            </p:nvSpPr>
            <p:spPr>
              <a:xfrm>
                <a:off x="6495120" y="5159520"/>
                <a:ext cx="298800" cy="29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9"/>
              <p:cNvSpPr/>
              <p:nvPr/>
            </p:nvSpPr>
            <p:spPr>
              <a:xfrm>
                <a:off x="6612840" y="5466960"/>
                <a:ext cx="241920" cy="40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"/>
              <p:cNvSpPr/>
              <p:nvPr/>
            </p:nvSpPr>
            <p:spPr>
              <a:xfrm>
                <a:off x="6357960" y="5337720"/>
                <a:ext cx="306720" cy="28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1"/>
              <p:cNvSpPr/>
              <p:nvPr/>
            </p:nvSpPr>
            <p:spPr>
              <a:xfrm>
                <a:off x="6736320" y="5805000"/>
                <a:ext cx="193680" cy="52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2"/>
              <p:cNvSpPr/>
              <p:nvPr/>
            </p:nvSpPr>
            <p:spPr>
              <a:xfrm>
                <a:off x="6590160" y="5789160"/>
                <a:ext cx="164160" cy="57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3"/>
              <p:cNvSpPr/>
              <p:nvPr/>
            </p:nvSpPr>
            <p:spPr>
              <a:xfrm>
                <a:off x="6744240" y="5177880"/>
                <a:ext cx="223200" cy="36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14"/>
            <p:cNvGrpSpPr/>
            <p:nvPr/>
          </p:nvGrpSpPr>
          <p:grpSpPr>
            <a:xfrm>
              <a:off x="7414560" y="4357800"/>
              <a:ext cx="871560" cy="2071080"/>
              <a:chOff x="7414560" y="4357800"/>
              <a:chExt cx="871560" cy="2071080"/>
            </a:xfrm>
          </p:grpSpPr>
          <p:sp>
            <p:nvSpPr>
              <p:cNvPr id="83" name="Freeform 15"/>
              <p:cNvSpPr/>
              <p:nvPr/>
            </p:nvSpPr>
            <p:spPr>
              <a:xfrm>
                <a:off x="7821000" y="4753440"/>
                <a:ext cx="323640" cy="70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6"/>
              <p:cNvSpPr/>
              <p:nvPr/>
            </p:nvSpPr>
            <p:spPr>
              <a:xfrm>
                <a:off x="7946640" y="4770720"/>
                <a:ext cx="339480" cy="66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17"/>
              <p:cNvSpPr/>
              <p:nvPr/>
            </p:nvSpPr>
            <p:spPr>
              <a:xfrm>
                <a:off x="7677000" y="5340600"/>
                <a:ext cx="294120" cy="104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18"/>
              <p:cNvSpPr/>
              <p:nvPr/>
            </p:nvSpPr>
            <p:spPr>
              <a:xfrm>
                <a:off x="7961400" y="5362200"/>
                <a:ext cx="145800" cy="10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19"/>
              <p:cNvSpPr/>
              <p:nvPr/>
            </p:nvSpPr>
            <p:spPr>
              <a:xfrm>
                <a:off x="7627320" y="4357800"/>
                <a:ext cx="389520" cy="38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20"/>
              <p:cNvSpPr/>
              <p:nvPr/>
            </p:nvSpPr>
            <p:spPr>
              <a:xfrm>
                <a:off x="7414560" y="4734720"/>
                <a:ext cx="498240" cy="38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21"/>
            <p:cNvGrpSpPr/>
            <p:nvPr/>
          </p:nvGrpSpPr>
          <p:grpSpPr>
            <a:xfrm>
              <a:off x="6368040" y="4412160"/>
              <a:ext cx="741240" cy="1261080"/>
              <a:chOff x="6368040" y="4412160"/>
              <a:chExt cx="741240" cy="1261080"/>
            </a:xfrm>
          </p:grpSpPr>
          <p:sp>
            <p:nvSpPr>
              <p:cNvPr id="90" name="Freeform 22"/>
              <p:cNvSpPr/>
              <p:nvPr/>
            </p:nvSpPr>
            <p:spPr>
              <a:xfrm>
                <a:off x="6644160" y="4726080"/>
                <a:ext cx="465120" cy="16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23"/>
              <p:cNvSpPr/>
              <p:nvPr/>
            </p:nvSpPr>
            <p:spPr>
              <a:xfrm>
                <a:off x="6520680" y="4711680"/>
                <a:ext cx="240120" cy="44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24"/>
              <p:cNvSpPr/>
              <p:nvPr/>
            </p:nvSpPr>
            <p:spPr>
              <a:xfrm>
                <a:off x="6368040" y="4736880"/>
                <a:ext cx="222840" cy="35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25"/>
              <p:cNvSpPr/>
              <p:nvPr/>
            </p:nvSpPr>
            <p:spPr>
              <a:xfrm>
                <a:off x="6509520" y="4412160"/>
                <a:ext cx="346680" cy="29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26"/>
              <p:cNvSpPr/>
              <p:nvPr/>
            </p:nvSpPr>
            <p:spPr>
              <a:xfrm>
                <a:off x="6395040" y="5068800"/>
                <a:ext cx="228600" cy="60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7"/>
              <p:cNvSpPr/>
              <p:nvPr/>
            </p:nvSpPr>
            <p:spPr>
              <a:xfrm>
                <a:off x="6589800" y="5078160"/>
                <a:ext cx="327240" cy="49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3000" y="571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RISCRITTURA e AUTOVALUT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 rot="20545800">
            <a:off x="1185840" y="2338200"/>
            <a:ext cx="2641680" cy="2585880"/>
          </a:xfrm>
          <a:prstGeom prst="rect">
            <a:avLst/>
          </a:prstGeom>
          <a:ln w="0">
            <a:noFill/>
          </a:ln>
        </p:spPr>
      </p:pic>
      <p:sp>
        <p:nvSpPr>
          <p:cNvPr id="98" name="CasellaDiTesto 3"/>
          <p:cNvSpPr/>
          <p:nvPr/>
        </p:nvSpPr>
        <p:spPr>
          <a:xfrm>
            <a:off x="4357800" y="2857680"/>
            <a:ext cx="414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avoro di riscrittura e autovalutazione non sono stati completati per mancanza di tempo.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5:18:02Z</dcterms:created>
  <dc:creator>marilu</dc:creator>
  <dc:description/>
  <dc:language>en-US</dc:language>
  <cp:lastModifiedBy>Ada</cp:lastModifiedBy>
  <dcterms:modified xsi:type="dcterms:W3CDTF">2011-07-17T18:19:43Z</dcterms:modified>
  <cp:revision>18</cp:revision>
  <dc:subject/>
  <dc:title>PIANO NAZIONALE POSEIDON PROGETTO DI FORMAZIONE DOCENTI di ITALIANO L1,ITALIANO L2, LINGUE STRANIERE E LINGUE CLASSICHE</dc:title>
</cp:coreProperties>
</file>