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29EA5-3542-4FBA-9F67-FE2E925D878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2651C-2CED-4585-BA1C-B76487142CBB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40533-03D6-433E-A8A3-3947F2E0E478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F4FE-3E1E-4CF3-AD7B-682DFE5EA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3273-CDC2-41B5-B5BF-6F0151E8C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79BC-7EE9-4800-A7F8-95A5ED0B8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19CF-DA41-4BCC-BBA6-C47C0A5D0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BB5F5-BE8F-4818-8A4D-7C1D53655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6C7CC-ADDE-4C55-8D2A-57A9E4E7F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8EAC7-28F3-4FFD-93C2-13744B12B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C0557-0F77-4265-BB39-F32C804B8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3A925-D84F-4997-BC8D-7C90748C4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A5AAF-A1D9-46CA-B67D-E310C1F2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06474-E16A-4D4C-B2F7-87CA477E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BBEC-530B-4B58-BAE4-5724C694A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AE51A-BB7B-4EF8-9B53-0AD5F655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DE046-A0BB-4956-84AA-DD69F93E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EDB39-434D-4F79-B93B-0AC38A828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FF787-BFE7-4F8B-BDCF-E83E1A0BF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9895B-DD89-4546-88E3-42922A806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31B1-8981-467E-93B2-79F0002E6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5076-A725-453B-AECA-69A41E3D1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233F-E435-4E47-B92E-A3D4F3AD0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7EC8-AC15-4D61-A793-6684B4EA8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1E9B-60D1-4F7A-9A48-AF1FAD30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2EFD-FF0A-4F20-8153-E951C61E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9BA3-BB11-467E-BC57-43EAD3F5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0BCFC-A9FC-4FE1-9557-BDBEF1276B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6A190-C1B0-49C3-839C-3318A401F6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motivazione.pdf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hyperlink" Target="file:///Scheda_Fallini.doc" TargetMode="External"/><Relationship Id="rId3" Type="http://schemas.openxmlformats.org/officeDocument/2006/relationships/hyperlink" Target="file:///Dante" TargetMode="External"/><Relationship Id="rId4" Type="http://schemas.openxmlformats.org/officeDocument/2006/relationships/hyperlink" Target="file:///Petrarca" TargetMode="External"/><Relationship Id="rId5" Type="http://schemas.openxmlformats.org/officeDocument/2006/relationships/hyperlink" Target="file:///testo3%20Boccaccio.doc" TargetMode="External"/><Relationship Id="rId6" Type="http://schemas.openxmlformats.org/officeDocument/2006/relationships/hyperlink" Target="file:///testo3%20Boccaccio.doc" TargetMode="External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6920" y="321264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WordArt 21"/>
          <p:cNvSpPr txBox="1"/>
          <p:nvPr/>
        </p:nvSpPr>
        <p:spPr>
          <a:xfrm>
            <a:off x="755640" y="2205000"/>
            <a:ext cx="7315200" cy="13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A TESTO A TESTO:</a:t>
            </a:r>
            <a:endParaRPr b="0" lang="en-US" sz="4400" spc="1" strike="noStrike">
              <a:ln w="1908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A TRADUZIONE ENDOLINGUISTICA</a:t>
            </a:r>
            <a:endParaRPr b="0" lang="en-US" sz="4400" spc="1" strike="noStrike">
              <a:ln w="1908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1" name=""/>
          <p:cNvSpPr/>
          <p:nvPr/>
        </p:nvSpPr>
        <p:spPr>
          <a:xfrm>
            <a:off x="2987640" y="5661000"/>
            <a:ext cx="49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orsist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Elena Crist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Gabriella Fallin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0920" y="549360"/>
            <a:ext cx="8208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PIANO NAZIONALE POSEIDON</a:t>
            </a:r>
            <a:br>
              <a:rPr sz="1600"/>
            </a:b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PROGETTO DI FORMAZIONE DOCENTI</a:t>
            </a:r>
            <a:br>
              <a:rPr sz="1600"/>
            </a:b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di ITALIANO L1,ITALIANO L2, LINGUE STRANIERE E LINGUE CLASSICHE</a:t>
            </a:r>
            <a:br>
              <a:rPr sz="1600"/>
            </a:b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POSEIDON PIEMONTE 2010-2011</a:t>
            </a:r>
            <a:br>
              <a:rPr sz="1600"/>
            </a:b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GRUPPO DI PROGETTAZIONE TORINO SUD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79480" y="4168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14"/>
          <p:cNvSpPr/>
          <p:nvPr/>
        </p:nvSpPr>
        <p:spPr>
          <a:xfrm>
            <a:off x="468360" y="43657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Ordine di scu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26920" y="5589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1280" y="4724280"/>
            <a:ext cx="396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aria di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econdo grado bienn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aria di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secondo grado trienn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799320" y="436572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ingu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561720" y="479736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taliano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a scuola: il Liceo linguistico ex C.M. 27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classe III interessata dal progetto appartiene alla sede centrale di una scuola che si articola su tre plessi dislocati in quartieri diversi di Torino e con un vasto bacino d’utenza che si estende oltre i confini della città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classe comprende sei diverse nazionalità oltre a quella italian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1" action="ppaction://hlinksldjump"/>
              </a:rPr>
              <a:t>indietr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80880" y="457200"/>
            <a:ext cx="8153640" cy="55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situazione di monolinguismo, invece, il sommario, il resoconto, la parafrasi e la semplificazione di testi orali o scritti rientrano a pieno titolo tra le attività di mediazione. L’utilizzo di queste pratiche, infatti, consente di stabilire o ri-stabilire un canale di comunicazione che è compromesso da un dislivello linguistico tra la fonte e il destinatario, o che è disturbato da fraintendimenti di tipo sociolinguistico o culturale. Ad esempio la spiegazione di testi specialistici di una disciplina o di un particolare o di un particolare uso linguistico […] implica operazioni di ‘traduzione’ di vocaboli ed espressioni, di riorganizzazione concettuale e riformulazione sintattica che rendano tali testi comprensibili a fruitori poco espert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l’Ascenza, Curci, Didattica della mediazione linguistica, p.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99ff99"/>
                </a:solidFill>
                <a:uFillTx/>
                <a:latin typeface="Times New Roman"/>
                <a:hlinkClick r:id="rId1" action="ppaction://hlinksldjump"/>
              </a:rPr>
              <a:t>indiet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727200"/>
            <a:ext cx="7924680" cy="54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gni attività di traduzione è una complessa operazione cognitiva: la </a:t>
            </a:r>
            <a:r>
              <a:rPr b="0" i="1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azione intertestuale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mplica , nel passaggio tra i testi (quello di partenza e quello di arrivo), attività di intensa lettura, comprensione e analisi, di ideazione e di riformulazione, di controllo e mantenimento dell’intenzione pragmatica, di ricerca semantica e stilistica; ogni attività di traduzione mette in moto attività </a:t>
            </a:r>
            <a:r>
              <a:rPr b="0" i="1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gnitive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 altro livello (</a:t>
            </a:r>
            <a:r>
              <a:rPr b="0" i="1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ial-and-error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solving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ecc.) che possono dare origine a lavori stimolanti, potenzialmente aperti ad una dimensione ludica in cui l’attività di ricerca e confronto tra più soluzioni conta tanto quanto il risultato finale, se non di pi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l’Ascenza, Curci, Didattica della mediazione linguistica, p. 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99ff99"/>
                </a:solidFill>
                <a:uFillTx/>
                <a:latin typeface="Arial"/>
                <a:hlinkClick r:id="rId1" action="ppaction://hlinksldjump"/>
              </a:rPr>
              <a:t>indiet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108240" y="6056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974880" y="879480"/>
            <a:ext cx="7331040" cy="51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Il lettore che resta passivo davanti al testo ha poche speranze di trovarlo interessa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Il lettore che ha poche conoscenze pregresse o non le usa per fare previsioni ha poche possibilità di capi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Il lettore che ha incamerato e strutturato poche conoscenze ha poche possibilità di farsene di nuo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bel, La didattica della lettura, comprensione e riscrittura di testi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99ff99"/>
                </a:solidFill>
                <a:uFillTx/>
                <a:latin typeface="Arial"/>
                <a:hlinkClick r:id="rId1" action="ppaction://hlinksldjump"/>
              </a:rPr>
              <a:t>indiet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5003640" y="476280"/>
            <a:ext cx="29530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Obiettivi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0" name=""/>
          <p:cNvSpPr/>
          <p:nvPr/>
        </p:nvSpPr>
        <p:spPr>
          <a:xfrm>
            <a:off x="901800" y="21337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39640" y="2133720"/>
            <a:ext cx="4176720" cy="1295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68ae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8ae"/>
                </a:solidFill>
                <a:latin typeface="Britannic Bold"/>
              </a:rPr>
              <a:t> </a:t>
            </a:r>
            <a:r>
              <a:rPr b="0" lang="en-US" sz="2400" spc="-1" strike="noStrike">
                <a:solidFill>
                  <a:srgbClr val="0068ae"/>
                </a:solidFill>
                <a:latin typeface="Britannic Bold"/>
              </a:rPr>
              <a:t>comprendere il testo poet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68ae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8ae"/>
                </a:solidFill>
                <a:latin typeface="Britannic Bold"/>
              </a:rPr>
              <a:t> </a:t>
            </a:r>
            <a:r>
              <a:rPr b="0" lang="en-US" sz="2400" spc="-1" strike="noStrike">
                <a:solidFill>
                  <a:srgbClr val="0068ae"/>
                </a:solidFill>
                <a:latin typeface="Britannic Bold"/>
              </a:rPr>
              <a:t>parafrasare il testo poet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1640" y="4221000"/>
            <a:ext cx="5616720" cy="129708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68ae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8ae"/>
                </a:solidFill>
                <a:latin typeface="Britannic Bold"/>
              </a:rPr>
              <a:t> </a:t>
            </a:r>
            <a:r>
              <a:rPr b="0" lang="en-US" sz="2400" spc="-1" strike="noStrike">
                <a:solidFill>
                  <a:srgbClr val="0068ae"/>
                </a:solidFill>
                <a:latin typeface="Britannic Bold"/>
              </a:rPr>
              <a:t>costruire un protocollo per la parafr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68ae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8ae"/>
                </a:solidFill>
                <a:latin typeface="Britannic Bold"/>
              </a:rPr>
              <a:t> </a:t>
            </a:r>
            <a:r>
              <a:rPr b="0" lang="en-US" sz="2400" spc="-1" strike="noStrike">
                <a:solidFill>
                  <a:srgbClr val="0068ae"/>
                </a:solidFill>
                <a:latin typeface="Britannic Bold"/>
              </a:rPr>
              <a:t>costruire un repertorio lessica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8ae"/>
                </a:solidFill>
                <a:latin typeface="Britannic Bold"/>
              </a:rPr>
              <a:t>della lingua letter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5"/>
          <p:cNvSpPr/>
          <p:nvPr/>
        </p:nvSpPr>
        <p:spPr>
          <a:xfrm>
            <a:off x="4572000" y="2133720"/>
            <a:ext cx="4419720" cy="6426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33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8ae"/>
                </a:solidFill>
                <a:latin typeface="Arial"/>
              </a:rPr>
              <a:t>  </a:t>
            </a:r>
            <a:r>
              <a:rPr b="1" lang="it-IT" sz="1800" spc="-1" strike="noStrike">
                <a:solidFill>
                  <a:srgbClr val="0068ae"/>
                </a:solidFill>
                <a:latin typeface="Arial"/>
              </a:rPr>
              <a:t>Lo sviluppo della competenza semantico-lessica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2743200" y="3049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chede Poseidon di riferim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1"/>
          <p:cNvSpPr/>
          <p:nvPr/>
        </p:nvSpPr>
        <p:spPr>
          <a:xfrm>
            <a:off x="304920" y="914400"/>
            <a:ext cx="4038480" cy="6426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33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8ae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8ae"/>
                </a:solidFill>
                <a:latin typeface="Arial"/>
              </a:rPr>
              <a:t>Didattica della mediazi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8ae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68ae"/>
                </a:solidFill>
                <a:latin typeface="Arial"/>
              </a:rPr>
              <a:t>linguist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14"/>
          <p:cNvSpPr/>
          <p:nvPr/>
        </p:nvSpPr>
        <p:spPr>
          <a:xfrm>
            <a:off x="539640" y="4941720"/>
            <a:ext cx="23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250920" y="3645000"/>
            <a:ext cx="4419360" cy="6426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33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8ae"/>
                </a:solidFill>
                <a:latin typeface="Arial"/>
              </a:rPr>
              <a:t>  </a:t>
            </a:r>
            <a:r>
              <a:rPr b="1" lang="en-US" sz="1800" spc="-1" strike="noStrike">
                <a:solidFill>
                  <a:srgbClr val="0068ae"/>
                </a:solidFill>
                <a:latin typeface="Arial"/>
              </a:rPr>
              <a:t>La riflessione grammatica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8ae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4724280" y="4869000"/>
            <a:ext cx="4419720" cy="6426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33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8ae"/>
                </a:solidFill>
                <a:latin typeface="Arial"/>
              </a:rPr>
              <a:t>   </a:t>
            </a:r>
            <a:r>
              <a:rPr b="1" lang="en-US" sz="1800" spc="-1" strike="noStrike">
                <a:solidFill>
                  <a:srgbClr val="0068ae"/>
                </a:solidFill>
                <a:latin typeface="Arial"/>
              </a:rPr>
              <a:t>La didattica della lettura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8ae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68ae"/>
                </a:solidFill>
                <a:latin typeface="Arial"/>
              </a:rPr>
              <a:t>comprensione e riscrittura dei testi</a:t>
            </a: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500"/>
                            </p:stCondLst>
                            <p:childTnLst>
                              <p:par>
                                <p:cTn id="17" nodeType="afterEffect" fill="hold" presetClass="entr" presetID="7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8500"/>
                            </p:stCondLst>
                            <p:childTnLst>
                              <p:par>
                                <p:cTn id="22" nodeType="afterEffect" fill="hold" presetClass="entr" presetID="7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3500"/>
                            </p:stCondLst>
                            <p:childTnLst>
                              <p:par>
                                <p:cTn id="27" nodeType="afterEffect" fill="hold" presetClass="entr" presetID="7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1692360" y="260280"/>
            <a:ext cx="5905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Riferimenti teorici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0" name=""/>
          <p:cNvSpPr/>
          <p:nvPr/>
        </p:nvSpPr>
        <p:spPr>
          <a:xfrm>
            <a:off x="611280" y="1557360"/>
            <a:ext cx="799308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ffffff"/>
                </a:solidFill>
                <a:latin typeface="Arial"/>
              </a:rPr>
              <a:t>Dell’Ascenza, Curci  : Didattica della mediazione linguistica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ffffff"/>
                </a:solidFill>
                <a:latin typeface="Arial"/>
              </a:rPr>
              <a:t>Dell’Ascenza, Curci  : Didattica della mediazione linguistica - Glossario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ffffff"/>
                </a:solidFill>
                <a:latin typeface="Arial"/>
              </a:rPr>
              <a:t>Dell’Ascenza, Curci  : Didattica della mediazione linguistica- Schede di approfondimento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ffffff"/>
                </a:solidFill>
                <a:latin typeface="Arial"/>
              </a:rPr>
              <a:t>Colombo: La riflessione grammaticale nell’apprendimento delle lingue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ffffff"/>
                </a:solidFill>
                <a:latin typeface="Arial"/>
              </a:rPr>
              <a:t>Pallotti: Descrivere le lingue:quale metalinguaggio per un’educazione linguistica efficace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ffffff"/>
                </a:solidFill>
                <a:latin typeface="Arial"/>
              </a:rPr>
              <a:t>Ambel: La didattica della lettura, comprensione e riscrittura dei testi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ffffff"/>
                </a:solidFill>
                <a:latin typeface="Arial"/>
              </a:rPr>
              <a:t>Ducati (a cura di ): Lo sviluppo della competenza semantico-lessicale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ffffff"/>
                </a:solidFill>
                <a:latin typeface="Arial"/>
              </a:rPr>
              <a:t>Inoltre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ffffff"/>
                </a:solidFill>
                <a:latin typeface="Arial"/>
              </a:rPr>
              <a:t>QCER per le Lingue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ffffff"/>
                </a:solidFill>
                <a:latin typeface="Arial"/>
              </a:rPr>
              <a:t>L. Mariani : Verso un’educazione linguistica plurilingue e interculturale (ILSA – Anno 2010 . N.1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WordArt 9"/>
          <p:cNvSpPr txBox="1"/>
          <p:nvPr/>
        </p:nvSpPr>
        <p:spPr>
          <a:xfrm>
            <a:off x="1905120" y="533520"/>
            <a:ext cx="5486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A TESTO A TESTO: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A TRADUZIONE ENDOLINGUISTICA 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2" name="Rectangle 11"/>
          <p:cNvSpPr/>
          <p:nvPr/>
        </p:nvSpPr>
        <p:spPr>
          <a:xfrm>
            <a:off x="1219320" y="1905120"/>
            <a:ext cx="678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68ae"/>
                </a:solidFill>
                <a:latin typeface="Arial"/>
              </a:rPr>
              <a:t>Ragionando meco et io con lui </a:t>
            </a:r>
            <a:r>
              <a:rPr b="1" lang="it-IT" sz="2800" spc="-1" strike="noStrike">
                <a:solidFill>
                  <a:srgbClr val="0068ae"/>
                </a:solidFill>
                <a:latin typeface="Arial"/>
              </a:rPr>
              <a:t>ovvero parlare con gli autori di ieri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12"/>
          <p:cNvSpPr/>
          <p:nvPr/>
        </p:nvSpPr>
        <p:spPr>
          <a:xfrm>
            <a:off x="1295280" y="2895480"/>
            <a:ext cx="6782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8a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ae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vito ai testi integrali e senza no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pretazione collaborativa del sens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lessivo del tes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finizione di una procedura operativa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rendere e riformulare il tes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lisi contrastiva degli errori e riflession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diante confronto con più parafr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struzione di un repertorio lessicale 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rfo-sintattico di riferim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>
            <a:hlinkClick r:id="rId1" action="ppaction://hlinksldjump"/>
          </p:cNvPr>
          <p:cNvSpPr/>
          <p:nvPr/>
        </p:nvSpPr>
        <p:spPr>
          <a:xfrm>
            <a:off x="7467480" y="24382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8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50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e motivazion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ndere più piacevole e graduale un percorso e sviluppare le capacità di applicare le competenze in contesti simili, ma via via più 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 action="ppaction://hlinksldjump"/>
              </a:rPr>
              <a:t>comples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uperare spazi per la comprensione e la rielaborazione del testo all’interno di una programmazione dedicata quasi esclusivamente 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2" action="ppaction://hlinksldjump"/>
              </a:rPr>
              <a:t>all’educazione 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3" action="ppaction://hlinksldjump"/>
              </a:rPr>
              <a:t>letteraria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838080" y="1752480"/>
            <a:ext cx="71787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Le nuove tecnologie hanno cambiato non solo le modalità di comunicare i messaggi, ma anche il modo di elaborare, conservare e trasmettere la conoscenza: </a:t>
            </a:r>
            <a:r>
              <a:rPr b="0" i="1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simultaneità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 anziché </a:t>
            </a:r>
            <a:r>
              <a:rPr b="0" i="1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sequenzialità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i="1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fine della linearità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 e della </a:t>
            </a:r>
            <a:r>
              <a:rPr b="0" i="1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compiutezza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 proprie del testo scritto, </a:t>
            </a:r>
            <a:r>
              <a:rPr b="0" i="1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veloci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tà anziché </a:t>
            </a:r>
            <a:r>
              <a:rPr b="0" i="1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lentezza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. Cambia anche il concetto di testo, sulla cui identità si fondano le nostre conoscenze linguistiche. (R. Simone in Ambe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Il sapere del passato (che non è affatto da cestinare) e ancora gran parte di quello del presente si fonda sul testo scritto. Per accostarci al passato o con le forme più alte del sapere contemporaneo, dobbiamo quindi saper interagire con quel tipo di testo, </a:t>
            </a:r>
            <a:r>
              <a:rPr b="0" lang="it-IT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nza negare le nuove forme di comunicazione e di condivisione del sapere ma senza nemmeno volerle applicare ad  un contesto cui non appartengon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98560" y="569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Le motivazion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a sperimentazione in classe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Da Dante a Boccaccio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di Gabriella Falli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99ff99"/>
                </a:solidFill>
                <a:uFillTx/>
                <a:latin typeface="Arial"/>
                <a:hlinkClick r:id="rId1" action="ppaction://hlinksldjump"/>
              </a:rPr>
              <a:t>Classe III di liceo linguistico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Scheda di proget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Testi utilizzati (</a:t>
            </a:r>
            <a:r>
              <a:rPr b="0" lang="it-IT" sz="20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Dante, </a:t>
            </a:r>
            <a:r>
              <a:rPr b="0" lang="it-IT" sz="2000" spc="-1" strike="noStrike" u="sng">
                <a:solidFill>
                  <a:srgbClr val="99ff99"/>
                </a:solidFill>
                <a:uFillTx/>
                <a:latin typeface="Arial"/>
                <a:hlinkClick r:id="rId4"/>
              </a:rPr>
              <a:t>Petrarca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it-IT" sz="2000" spc="-1" strike="noStrike" u="sng">
                <a:solidFill>
                  <a:srgbClr val="99ff99"/>
                </a:solidFill>
                <a:uFillTx/>
                <a:latin typeface="Arial"/>
                <a:hlinkClick r:id="rId5"/>
              </a:rPr>
              <a:t>Boccaccio</a:t>
            </a:r>
            <a:r>
              <a:rPr b="0" lang="it-IT" sz="2000" spc="-1" strike="noStrike" u="sng">
                <a:solidFill>
                  <a:srgbClr val="99ff99"/>
                </a:solidFill>
                <a:uFillTx/>
                <a:latin typeface="Arial"/>
                <a:hlinkClick r:id="rId6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Campionatura di lavori degli studen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Note a marg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 sperimentazione in clas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Il Proemio dell’Iliad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di Elena Crist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lasse I superiore di II grado Amministrazione Finanza e Market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cheda di proget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esti introduttivi di Baricco e De Crescenz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esti dell’Iliade per la parafra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ampionatura di lavori degli studen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Autovalutazione e verif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99ff99"/>
                </a:solidFill>
                <a:uFillTx/>
                <a:latin typeface="Arial"/>
                <a:hlinkClick r:id="rId1" action="ppaction://hlinksldjump"/>
              </a:rPr>
              <a:t>f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3:56:38Z</dcterms:created>
  <dc:creator>poseidon</dc:creator>
  <dc:description/>
  <dc:language>en-US</dc:language>
  <cp:lastModifiedBy>Ada</cp:lastModifiedBy>
  <dcterms:modified xsi:type="dcterms:W3CDTF">2011-07-17T18:22:28Z</dcterms:modified>
  <cp:revision>28</cp:revision>
  <dc:subject/>
  <dc:title>Diapositiva 1</dc:title>
</cp:coreProperties>
</file>